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27D-6C50-482F-9E71-7A889F5B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AA0-8639-41F3-B261-196EC83B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97AD7-0A09-444E-B38B-7FCE2A3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C07DF-DC3E-4DF5-89BA-D51FB025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A6D6-BA5D-4725-9F51-35089BCB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04CE5-AC62-4D06-8716-EA7FF0F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7624-7B6C-464D-9DA1-D6CB228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60293-F655-47C2-AD55-D2A6517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7CCD4-B61C-4B30-B0DB-70CAA9BF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5E0C6-CFD2-42C1-B614-2C70BD8B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C1CA0-472B-4159-8199-7A960A1D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52618-D152-4804-9B78-D27A067A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121-5146-4290-BB58-6A54836A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4E2E7-FD49-4DBA-BA17-9785DF3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E3991-2A1E-4A32-B23C-647B5254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DA48D-B14B-4678-A23D-DD730138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6E5DF-D841-42C2-9B76-A3505AD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FC770-8BA8-4EEB-B8F3-458B9FBA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BB08-EA96-41F7-A4B3-E335749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30056-E279-485A-B427-7B80203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B97F0-D8EE-4BEB-9612-F7B098D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E878F-3C11-41B0-87BC-14D6E90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152C1-7F14-470E-8E80-3C876BFD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458-2E2A-4564-BC3E-391CF883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6A084-8A36-4F7F-85F8-A17E0DFA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04B1-9001-4BB8-B4E8-07BB93E9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92A74-EA43-441C-81D2-DD5F2B18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7FF6B-BCB5-403B-9B73-614F42D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60C1-47BF-41D3-A78E-2451D48C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2B34-1A73-468E-8F44-ADBBC5B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97FCC-33D6-4B07-8CC8-E1CD857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2BA98-C23C-4F1D-AD29-D3A6015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B7C7-17EF-4B00-B6B4-085FFB2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09D10-AE2D-4882-A202-D53FAE4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3A4D-66A6-4EDE-8577-92422476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47934-A6F9-4BBF-85F9-30FD6AC7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58DF1-B752-4CF9-B530-E68D14D9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1D48D-88AB-4BD9-86F1-B9DE9CF2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78094-D380-430E-82B5-A6E5DD51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D700A-9A68-4F0C-984F-3C1E4A7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4F9EC-264A-48CD-B3F2-D0B0CB2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949B-21CD-4DF9-BE17-5CE9115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AB0DE-C469-4463-B07C-F486FE4C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4F9B6-9760-4455-889D-3B58D35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399CB-F8E9-48B9-B2C3-E91EC7E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B11E-83AC-42AD-9AAD-B78579C1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A1EED-4D4F-442C-AD58-E001767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1FE55-6BE7-498E-8973-1A75192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C91DB-D2C9-4E35-97D1-26A1A06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36B5E-A962-4787-9E2E-A92EE186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11FBF-AE49-49E1-8BE4-7381FE82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E4A-2759-496F-9811-9A0A18C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7BA-34D0-4AF9-8CA9-DCA1E8D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49C-C24D-433E-A287-805018C2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18F-918D-47D3-9F0E-58A99F5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731-2F80-47AC-8901-88DCD78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212-4BC1-4E5F-946B-3A67653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6F1E-F998-48B0-8752-24EAA4A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286-7E62-4C9C-8DA5-C30CDFD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38D1-ADDE-498D-ADEE-89B972C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C142-EE6F-4A69-A848-EAC1B86F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1D67-21EE-422F-AF79-E6D75C1F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5F30-8AE5-4D54-8DA6-654ACF2B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FD03-0D3B-4953-9933-3199DC3E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1B07-E939-43D5-90B9-FA7D964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D33C-ABEC-4077-B8BE-ABA15B22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61D1-90F6-4240-9BF5-A2CFF677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AAE-093C-40A2-8827-07C791E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F677-6BA8-4941-BD68-C27F1B76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2BE1-7EF9-4953-BFD8-DA2451B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8D80-5227-462D-AB4D-57FB4B5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55E5-94B6-4669-8AEA-6940BE9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AB48-D00F-4B7F-953C-98E10D8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24F1-BB9E-4BFA-A2FC-F973DB4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0FDA-7941-47A4-8A10-375F550A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FC52-2FDF-4821-B398-84C2A1B9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F3BB-FC8A-4854-8CCE-7CBFF8E6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95D9-E2C5-4C8E-B305-4D2E0F0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63A-8A75-4EEF-B3D7-542CE868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31FB-EFE9-41EB-9928-7EAB91A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6ED7-7F38-41DA-B450-D3A33F1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73A9-E2E4-4D14-B683-6286A377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CEA7-7821-4434-8F3F-4A59460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CE8A-C0D4-4991-ABB9-22D2114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8665-1755-41EC-B635-436665C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1CCA-2837-468E-BB32-157D05AF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0E74-E856-4E9C-A8AE-90DA3250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7C74-CDE1-4D33-AF3D-4CD6746E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1217A-BD80-45D1-ACED-1753E7AA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58A-0346-4B05-9C1B-1B7457D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45A05-82A5-4B0C-AB9A-7997C852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C5A7-3574-4AC7-BBFD-6A633E4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6221-2906-45C5-BD89-3326762D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E0D9-1C21-43D4-AA85-2A53E5B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0D41-8063-4629-B950-58A2F0D6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E081-7A40-4377-9771-1D9B1B4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8E93-4E03-49D8-BA4D-AB1DC35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CBAD5-67DF-4CA2-A5D3-E82831A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147D-C2B0-4DB7-8986-295F6986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B1B5-0F6D-4CEE-A870-51A83CD3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A51-92ED-4027-9359-31F60641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F45F-8112-48A7-BA40-7869B155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D084-0F62-4D0D-BF32-A1B6DE4C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3AB5-AD42-44BF-AE2C-BD5DE159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95C2-C677-4651-B142-E0FBC7F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650BA-DFB9-4FDD-B26D-E76678B5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0AD9B-5DDD-40C8-9EB4-9381913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EF15-5A72-40D7-939F-39D1A83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5A52-6205-47CF-A3E0-BC6AFED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9E38B-9525-4FE6-A389-2AE8D33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EE5F-EF2F-41A1-BAF5-5855BF0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671-476B-4436-BFF0-B2030BAD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2C02-78A7-4E34-82DD-BA73C642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48B4-6141-42BF-9016-D14D309B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554F-E985-4A81-8D84-BA7CD7D8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074AD-9EC0-4DC0-BDE1-6E7F1A6D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302B-37C2-48EA-8709-F7F9FCE9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EA57-6768-4007-B3BE-6B0973F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90538-B3AA-4202-A99F-33133DB4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BAE0-9C4D-4453-B9B1-9F39A27F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FC83-6B4C-40FD-98B1-3A7C7F84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7C4E-CB3C-4904-B5E0-5E88DCC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C90-3A35-4EFD-BCE5-E24637F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6A23-3A7D-4B65-B578-3B2213E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8E33-6FB1-4C91-8833-9AD6B06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7F03-9D31-43E5-BF8A-43A1063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1A30C-B7F2-4841-8103-50A8447D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D2E0C-A25E-4F30-A0B9-9F88FDA4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1878-B11E-469C-BF82-2E82FE03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789D-ABEC-4FAF-8362-32385BFE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E210-6C7C-455A-8595-1F9291C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DC946-C44D-41E0-9CDE-FB6EE6F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357C-74A0-4D5B-8241-115471CB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621-8C6C-41C2-A2D7-2904F61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2AEEE-DB87-44F1-A307-D6C923E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1A74-394D-4E16-92EB-7120051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0D6A-1443-45F2-9A2E-A6C5838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3B56-3241-40FA-A76D-6C7FFE3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8EF5-46F6-4F78-AE50-563E9FB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050D-E800-4AE4-B219-E6E15D7C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5597-BB06-4429-87EA-FBFBC09F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151C-4906-465E-8A7A-798DA35A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6F4D-62C6-4829-9229-D6324273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E59B9-64A4-4FDF-B647-24C3D34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42D-EDB3-43FD-832F-CF7901096C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AE3-AE79-499F-AD16-B5866D9840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10E-6377-48FB-900B-45B77CC03B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668-B1D7-46C8-B0AE-88B444DFC1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8100-A8F2-4D50-9E0A-5EC26BC3E2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4341-996C-4A64-9D4F-D4893E10A7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52B5-80AD-4807-B4B4-41B0617DDE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E73-49C2-4CBB-81A7-DDE447D323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8D3-F3D9-43DD-9590-D849466BA2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F24F-7A3F-407F-B424-F00CBBCE05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381C-F10D-4DB1-9794-46FEE192A7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E44E-3436-4513-A27F-E3B0210174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7 Pán je môj Pastier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 môj Pastier nebes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núdzu nepoz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on k vodám tichým vodí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 sviežim pastvin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dušu moju občerst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rne ma vždy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po ceste spravodliv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svojho mena čes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pôjdem smrti údolím, však nemusím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prút jeho vždy ma pote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i mne bude stá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neprajníkmi boha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tôl mi prestie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a kalich vínom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 štedro nalieva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jeho milsoť nesmier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lásky zname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 nej kotví viery ist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budem bývať s ním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05:01Z</dcterms:modified>
  <cp:revision>22</cp:revision>
  <dc:subject/>
  <dc:title>Je veľký náš Pán, on slávy je Kráľ Nech do všetkých strán  spev vrúcnych znie chvál.</dc:title>
</cp:coreProperties>
</file>